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2E9F-C04E-485C-AD31-F928FB37B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30F9-4C00-4DCA-A2F5-C946872AD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11DA-9251-449E-9ECF-2CBAE1B70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E84-92B1-4904-BCB8-DB81CC4D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8BE-6234-4481-82DC-C4CB9331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49C-E3A5-4BC4-9D59-1031CA54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FE7-017A-47FA-98CF-2E13A54A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DDD-2C8B-4FF9-B495-930AB016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4E5-8937-46C7-969C-76639BE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A3A-8464-4FB9-A15A-18BBA215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FFA-02A5-4678-9D70-C80FAE5B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7F3-EDDF-4062-8914-7F0FA0E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716-94DB-4F87-B779-B939D5FA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60A-0A22-4F9D-87BB-DCAD06DC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BDF-05E6-4947-BDB0-CF7A5F34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71C9-2237-4248-8398-6F0F71011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Switches-Catalyst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4948E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4948E-F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4948E-F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4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X4904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8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X4908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20-GB-RJ45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X4920-GB-RJ45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4948-10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S-4948-10GE.emf"/>
          <p:cNvPicPr/>
          <p:nvPr/>
        </p:nvPicPr>
        <p:blipFill>
          <a:blip r:embed="rId1"/>
          <a:stretch/>
        </p:blipFill>
        <p:spPr>
          <a:xfrm>
            <a:off x="4083120" y="3562200"/>
            <a:ext cx="977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4900M.emf"/>
          <p:cNvPicPr/>
          <p:nvPr/>
        </p:nvPicPr>
        <p:blipFill>
          <a:blip r:embed="rId1"/>
          <a:stretch/>
        </p:blipFill>
        <p:spPr>
          <a:xfrm>
            <a:off x="4084560" y="3510000"/>
            <a:ext cx="97488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 (re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4900M_(rear).emf"/>
          <p:cNvPicPr/>
          <p:nvPr/>
        </p:nvPicPr>
        <p:blipFill>
          <a:blip r:embed="rId1"/>
          <a:stretch/>
        </p:blipFill>
        <p:spPr>
          <a:xfrm>
            <a:off x="4076640" y="3510000"/>
            <a:ext cx="9907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4948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4948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4948_Front.emf"/>
          <p:cNvPicPr/>
          <p:nvPr/>
        </p:nvPicPr>
        <p:blipFill>
          <a:blip r:embed="rId1"/>
          <a:stretch/>
        </p:blipFill>
        <p:spPr>
          <a:xfrm>
            <a:off x="4029120" y="353700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4948E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2T22:14:03Z</dcterms:modified>
  <cp:revision>5</cp:revision>
  <dc:subject/>
  <dc:title>Title Slide</dc:title>
</cp:coreProperties>
</file>